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D0C-3A24-4D72-9568-E6612C04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A44-F4EC-4FDB-9ECB-E98452DE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7BE-425C-4B02-B0FA-72DC9F1F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150-83CF-422F-84A2-7A591299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AB0-E1E1-42DE-A17D-6E564E93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5B2-C82F-4DF0-BE63-6218F308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DD8-35BD-4109-A9E4-923463DE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556-5A89-4471-AB91-29CFB61F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A31-F4B9-4730-9CD1-28BA79AC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456-C874-4F02-805B-13D47272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4D7-C8C7-44A9-B351-AA5A6EB4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272-A3BE-4188-986A-B1EF4370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89EF-8CF2-4428-8EDF-DC49E8F00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1447920"/>
            <a:ext cx="784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鼻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í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hē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奇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íguà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ange; surprising; o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很多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ěndu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y man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ē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á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高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āoxì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ad; happy; cheerful; be willing to; be happy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想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ǎ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uld like to;  remember with longing; mi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要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àoyǒ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; requ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ó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房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áng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ǎ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 awa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ǒ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ùz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e; rab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directed at;  bring (two things) into conta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throw; cas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à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g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是小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1"/>
          <a:stretch/>
        </p:blipFill>
        <p:spPr>
          <a:xfrm>
            <a:off x="-53352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对房子丢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orded Sound" descr=""/>
          <p:cNvPicPr/>
          <p:nvPr/>
        </p:nvPicPr>
        <p:blipFill>
          <a:blip r:embed="rId1"/>
          <a:stretch/>
        </p:blipFill>
        <p:spPr>
          <a:xfrm>
            <a:off x="-99072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dolph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说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你 不能对房子丢蛋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请善良一点吧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你对房子与礼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1"/>
          <a:stretch/>
        </p:blipFill>
        <p:spPr>
          <a:xfrm>
            <a:off x="-152388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ster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对大地与礼品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1"/>
          <a:stretch/>
        </p:blipFill>
        <p:spPr>
          <a:xfrm>
            <a:off x="-53352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人人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1"/>
          <a:stretch/>
        </p:blipFill>
        <p:spPr>
          <a:xfrm>
            <a:off x="-76212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dolph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回家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1"/>
          <a:stretch/>
        </p:blipFill>
        <p:spPr>
          <a:xfrm>
            <a:off x="-76212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很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indeer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Recorded Sound" descr=""/>
          <p:cNvPicPr/>
          <p:nvPr/>
        </p:nvPicPr>
        <p:blipFill>
          <a:blip r:embed="rId1"/>
          <a:stretch/>
        </p:blipFill>
        <p:spPr>
          <a:xfrm>
            <a:off x="-83808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们很高兴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所以他们飞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Recorded Sound" descr=""/>
          <p:cNvPicPr/>
          <p:nvPr/>
        </p:nvPicPr>
        <p:blipFill>
          <a:blip r:embed="rId1"/>
          <a:stretch/>
        </p:blipFill>
        <p:spPr>
          <a:xfrm>
            <a:off x="-60948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有一个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有很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istmas reinde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1"/>
          <a:stretch/>
        </p:blipFill>
        <p:spPr>
          <a:xfrm>
            <a:off x="-12952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85800" y="175248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was a rein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 name was Rud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had an odd 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as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reindeer didn't play with Rud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was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wante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ran away to find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riend was a rab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liked throwing eggs at peoples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ph told him to s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f told him that he should give people gifts to make them forgiv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1"/>
          <a:stretch/>
        </p:blipFill>
        <p:spPr>
          <a:xfrm>
            <a:off x="-8380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6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33520" y="15238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ǐ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; ask; invite; engage; &lt;polite&gt;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善良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ànliá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and honest; kindhe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吧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uxiliary&gt;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0" y="1720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unny was named E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then gave eggs to the whol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dolf then wen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 family was h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made him in charge of there games including the race in which they pulled a sleigh as fast as they could until they were so fast that they fl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is were the Easter bunny and the Christmas reindeer came f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orded Sound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6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是一个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inde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 叫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dolf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orded Sound" descr=""/>
          <p:cNvPicPr/>
          <p:nvPr/>
        </p:nvPicPr>
        <p:blipFill>
          <a:blip r:embed="rId1"/>
          <a:stretch/>
        </p:blipFill>
        <p:spPr>
          <a:xfrm>
            <a:off x="-53352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5622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他有红鼻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鼻子 真奇怪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orded Sound" descr=""/>
          <p:cNvPicPr/>
          <p:nvPr/>
        </p:nvPicPr>
        <p:blipFill>
          <a:blip r:embed="rId1"/>
          <a:stretch/>
        </p:blipFill>
        <p:spPr>
          <a:xfrm>
            <a:off x="-99072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057400" y="1690560"/>
            <a:ext cx="3876840" cy="516744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4"/>
          <p:cNvGrpSpPr/>
          <p:nvPr/>
        </p:nvGrpSpPr>
        <p:grpSpPr>
          <a:xfrm>
            <a:off x="2724120" y="5241960"/>
            <a:ext cx="1030320" cy="950760"/>
            <a:chOff x="2724120" y="5241960"/>
            <a:chExt cx="1030320" cy="950760"/>
          </a:xfrm>
        </p:grpSpPr>
        <p:pic>
          <p:nvPicPr>
            <p:cNvPr id="52" name="Oval 4" descr=""/>
            <p:cNvPicPr/>
            <p:nvPr/>
          </p:nvPicPr>
          <p:blipFill>
            <a:blip r:embed="rId3"/>
            <a:stretch/>
          </p:blipFill>
          <p:spPr>
            <a:xfrm>
              <a:off x="2724120" y="5241960"/>
              <a:ext cx="10303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887560" y="5391000"/>
              <a:ext cx="7016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很多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de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1"/>
          <a:stretch/>
        </p:blipFill>
        <p:spPr>
          <a:xfrm>
            <a:off x="-914400" y="2057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2519280" y="169560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们不跟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dolph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1"/>
          <a:stretch/>
        </p:blipFill>
        <p:spPr>
          <a:xfrm>
            <a:off x="-76212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5658120" cy="4243320"/>
          </a:xfrm>
          <a:prstGeom prst="rect">
            <a:avLst/>
          </a:prstGeom>
          <a:ln w="0">
            <a:noFill/>
          </a:ln>
        </p:spPr>
      </p:pic>
      <p:sp>
        <p:nvSpPr>
          <p:cNvPr id="60" name="Oval 4"/>
          <p:cNvSpPr/>
          <p:nvPr/>
        </p:nvSpPr>
        <p:spPr>
          <a:xfrm rot="4432800">
            <a:off x="4317480" y="2743200"/>
            <a:ext cx="45720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43434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  不 高兴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想要有朋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1"/>
          <a:stretch/>
        </p:blipFill>
        <p:spPr>
          <a:xfrm>
            <a:off x="-838080" y="1981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2857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从房子跑走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orded Sound" descr=""/>
          <p:cNvPicPr/>
          <p:nvPr/>
        </p:nvPicPr>
        <p:blipFill>
          <a:blip r:embed="rId1"/>
          <a:stretch/>
        </p:blipFill>
        <p:spPr>
          <a:xfrm>
            <a:off x="-76212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有一个兔子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兔子叫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st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orded Sound" descr=""/>
          <p:cNvPicPr/>
          <p:nvPr/>
        </p:nvPicPr>
        <p:blipFill>
          <a:blip r:embed="rId1"/>
          <a:stretch/>
        </p:blipFill>
        <p:spPr>
          <a:xfrm>
            <a:off x="-53352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49:04Z</dcterms:created>
  <dc:creator>itsuser</dc:creator>
  <dc:description/>
  <dc:language>en-US</dc:language>
  <cp:lastModifiedBy>itsuser</cp:lastModifiedBy>
  <dcterms:modified xsi:type="dcterms:W3CDTF">2009-03-10T20:14:50Z</dcterms:modified>
  <cp:revision>14</cp:revision>
  <dc:subject/>
  <dc:title>这是一个reindeer。 他 叫 Rudolf。</dc:title>
</cp:coreProperties>
</file>